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531-694A-4E96-B296-9644989C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BAA-76AF-4B5C-851D-127C39B5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A1E-A1F7-4262-9944-75019981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B1C-8D34-4989-8EDB-947FBF62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828-293A-4F60-9BCF-60B36FF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337-D632-44D5-8027-1462618F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FB1-C8F6-4C8C-8B31-3B83DD5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4D6-9E5A-4D89-BE38-E84A0D1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368-92E3-4148-B2F0-5638476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409-7712-4F38-83F1-7FB5948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0DD-7A5A-42AD-BCA0-90D70D9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179-CFB0-48C2-9695-AE9F4B8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71C5-620D-4F29-B6A2-C07848AA7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2133360"/>
            <a:ext cx="75582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Monotype Corsiva"/>
              </a:rPr>
              <a:t>Построение диаграмм и графиков функций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314440" y="2251080"/>
            <a:ext cx="458496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-147240"/>
            <a:ext cx="91440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Основные элементы диа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132000" y="3860640"/>
            <a:ext cx="2160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ы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3132000" y="5084640"/>
            <a:ext cx="2160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6156360" y="1368360"/>
            <a:ext cx="216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632560" y="2924280"/>
            <a:ext cx="34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построения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0" y="2414520"/>
            <a:ext cx="2160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5575320" y="4734000"/>
            <a:ext cx="2160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 катег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250920" y="4729320"/>
            <a:ext cx="216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826920" y="1508040"/>
            <a:ext cx="2160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3276720" y="1606680"/>
            <a:ext cx="215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7236000" y="3860640"/>
            <a:ext cx="1368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23"/>
          <p:cNvCxnSpPr>
            <a:stCxn id="79" idx="1"/>
          </p:cNvCxnSpPr>
          <p:nvPr/>
        </p:nvCxnSpPr>
        <p:spPr>
          <a:xfrm flipH="1">
            <a:off x="4426920" y="3247560"/>
            <a:ext cx="120564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25"/>
          <p:cNvCxnSpPr/>
          <p:nvPr/>
        </p:nvCxnSpPr>
        <p:spPr>
          <a:xfrm>
            <a:off x="6268680" y="199980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27"/>
          <p:cNvCxnSpPr/>
          <p:nvPr/>
        </p:nvCxnSpPr>
        <p:spPr>
          <a:xfrm>
            <a:off x="4858920" y="22525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29"/>
          <p:cNvCxnSpPr/>
          <p:nvPr/>
        </p:nvCxnSpPr>
        <p:spPr>
          <a:xfrm>
            <a:off x="2160720" y="1876320"/>
            <a:ext cx="1116720" cy="11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31"/>
          <p:cNvCxnSpPr/>
          <p:nvPr/>
        </p:nvCxnSpPr>
        <p:spPr>
          <a:xfrm>
            <a:off x="1349280" y="2778120"/>
            <a:ext cx="1116720" cy="11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32"/>
          <p:cNvCxnSpPr/>
          <p:nvPr/>
        </p:nvCxnSpPr>
        <p:spPr>
          <a:xfrm flipH="1">
            <a:off x="6803640" y="403200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35"/>
          <p:cNvCxnSpPr/>
          <p:nvPr/>
        </p:nvCxnSpPr>
        <p:spPr>
          <a:xfrm flipV="1">
            <a:off x="2351160" y="4149360"/>
            <a:ext cx="63720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38"/>
          <p:cNvCxnSpPr/>
          <p:nvPr/>
        </p:nvCxnSpPr>
        <p:spPr>
          <a:xfrm flipV="1">
            <a:off x="2411280" y="4444560"/>
            <a:ext cx="136944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44"/>
          <p:cNvCxnSpPr/>
          <p:nvPr/>
        </p:nvCxnSpPr>
        <p:spPr>
          <a:xfrm flipH="1" flipV="1">
            <a:off x="5358960" y="4444920"/>
            <a:ext cx="43272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диаграм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основные типы диаграм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основные объекты диаграм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шаги выполняет Мастер для построения диа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6424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Подведение итог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3.3 стр.93 - 97, ответить на вопросы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26424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 ИКТ: учебник для 9 класса/ Н. Д. Угринович. – 2-еизд., испр. – М.:БИНОМ. Лаборатория знаний,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ригина Е. В. Создание и редактирование электронных таблиц в сре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Offi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Учебное пособие. – Москва: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аграмма (график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наглядное графическое представление числовых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32000" y="1628640"/>
            <a:ext cx="6696000" cy="7923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ные типы диа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2527200"/>
            <a:ext cx="356400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нейч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580000" y="2527200"/>
            <a:ext cx="356400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руго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862360" y="3284640"/>
            <a:ext cx="356400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нии (график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920" y="3203640"/>
            <a:ext cx="274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соотношение отдельных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х, изменяемых за определённый период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588000" y="327492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вклад ряда в общий круг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еличину каждого 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27280" y="393372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изменение данных за равные промеж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560" y="5119560"/>
            <a:ext cx="2890800" cy="17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6243480" y="5119560"/>
            <a:ext cx="2936880" cy="176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3"/>
          <a:stretch/>
        </p:blipFill>
        <p:spPr>
          <a:xfrm>
            <a:off x="3119400" y="5103720"/>
            <a:ext cx="29653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4859280" y="333360"/>
            <a:ext cx="3564000" cy="719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иаграмма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3960" y="333360"/>
            <a:ext cx="3564000" cy="719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859280" y="1917720"/>
            <a:ext cx="3564000" cy="719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етчат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11280" y="1916280"/>
            <a:ext cx="3564000" cy="718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ирж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506680" y="1209600"/>
            <a:ext cx="4176720" cy="649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толбцы и ли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9520" y="386064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 помощью Мастера ди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ставка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→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Пиктограмма «Диаграмма»       на панели инструментов Стандартна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-621360" y="3441600"/>
            <a:ext cx="103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Monotype Corsiva"/>
              </a:rPr>
              <a:t>Построение диаграмм и граф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6262560" y="5157720"/>
            <a:ext cx="54144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0" t="14165" r="67145" b="51193"/>
          <a:stretch/>
        </p:blipFill>
        <p:spPr>
          <a:xfrm>
            <a:off x="1476360" y="1125360"/>
            <a:ext cx="5832360" cy="4611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-619200" y="201600"/>
            <a:ext cx="676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Исходные дан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ыделить ячейки таблицы, по числовым данным которых строится диаграм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полнить команду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тавка —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выбрать тип диа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-223560"/>
            <a:ext cx="91440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Этапы построения диа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rcRect l="0" t="2693" r="0" b="0"/>
          <a:stretch/>
        </p:blipFill>
        <p:spPr>
          <a:xfrm>
            <a:off x="488880" y="2873520"/>
            <a:ext cx="81662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ри необходимости внести изменения в диапазон данных , задать построение данных в строках или столбцах — изменения также сразу же появляются на создаваемой диаграм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309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настроить диапазон данных для каждого ряда данных, добавить или удалить ря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805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задать элементы диаграммы: заголовки, параметры сетки, расположение леге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-209160" y="6165720"/>
            <a:ext cx="7000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жать на кнопку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о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8829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91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4:52:10Z</dcterms:created>
  <dc:creator>Admin</dc:creator>
  <dc:description/>
  <dc:language>en-US</dc:language>
  <cp:lastModifiedBy>Директор</cp:lastModifiedBy>
  <dcterms:modified xsi:type="dcterms:W3CDTF">2014-03-20T15:18:58Z</dcterms:modified>
  <cp:revision>22</cp:revision>
  <dc:subject/>
  <dc:title>Построение диаграмм и графиков функций</dc:title>
</cp:coreProperties>
</file>